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54B7-8AF6-44E4-B9D2-939AE911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0AC4-E95A-4CDD-9683-2B41D9CE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2CCEB-7833-4623-A5E9-1FA9CC4A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891F1-1ACC-437D-A300-2BDFE0BB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6B98-856F-42D6-92B2-64DC6167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1F15-155F-497C-AFBC-C9C9A49E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D786-A99F-45FC-B9A1-FA00EBD5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19CD-2C50-4872-9A68-B3148D61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3F98-D6D7-47CC-95C1-F7969411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2023-2EEF-40F1-96E8-F9DB3A1B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47EC-DE92-460F-8909-15246AF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41C8-C00F-4E0E-A1B2-8AD278A9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29FC-DE20-4DA9-AEDD-E2CC2D39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DFD4-D18E-4EF7-BEFA-BAA47436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CDCD-CA73-471F-887F-EB39356F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D10D-EA7D-4F34-A42A-59B35BC8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F1A4-5998-46B5-8B89-FAFC9C6BD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DA91-60C5-46B7-B745-CE8B0E25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8975-A7C9-45B6-9A8A-E5FF37EC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73A6-17DE-46BD-BD47-185DD3BD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EA0E-AFC8-410C-A88B-88AA1B95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2C834-9149-4B49-8BFB-07B555D9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1696-9FED-4EB2-997C-F057E0C2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E1CD-6601-4077-9F96-8AF2858A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2A36-05C5-4447-8D11-F24D039119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D26F-4405-4811-8DB9-612EF925B0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4692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Влияние компьютера и компьютерных игр на здоровье и психику человека.</a:t>
            </a:r>
            <a:br>
              <a:rPr sz="5400"/>
            </a:br>
            <a:r>
              <a:rPr b="1" lang="en-US" sz="1800" spc="-1" strike="noStrike">
                <a:solidFill>
                  <a:srgbClr val="e5e5ff"/>
                </a:solidFill>
                <a:latin typeface="Garamond"/>
              </a:rPr>
              <a:t>Практическая часть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еница 9-б класс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Лобова Виктор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Первая экспериментальная групп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119320" y="2505240"/>
          <a:ext cx="4905360" cy="271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2505240"/>
                    <a:ext cx="490536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Вторая экспериментальная групп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119320" y="2505240"/>
          <a:ext cx="4905360" cy="271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9320" y="2505240"/>
                    <a:ext cx="4905360" cy="27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ольшинство детей и подростков отдают свое предпочтение музыкальным и развлекательным передачам, нежели познавательным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ипотеза о том, что увлечение подростков компьютерными играми способствует формированию агрессии и враждебности у подростков, подтверждена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для профилактики компьютерной зависимости необходимо информировать детей и родителей о влиянии на психику и здоровье человека компьютера и компьютерных игр, а также повышать интерес подростков к различным сферам современного досуг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09:37:07Z</dcterms:created>
  <dc:creator>СВЕТЛАНА  ФЁДОРОВНА</dc:creator>
  <dc:description/>
  <dc:language>en-US</dc:language>
  <cp:lastModifiedBy>СВЕТЛАНА  ФЁДОРОВНА</cp:lastModifiedBy>
  <dcterms:modified xsi:type="dcterms:W3CDTF">2009-01-21T09:03:00Z</dcterms:modified>
  <cp:revision>6</cp:revision>
  <dc:subject/>
  <dc:title>Влияние компьютера и компьютерных игр на здоровье и психику человека.</dc:title>
</cp:coreProperties>
</file>